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640C-F820-4F28-A62F-3D98EFFE4D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employees are empowered to do whatever it takes to provide "instant pacification.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atter what their normal duties are, other employees must assist if aid is requested by a fellow worker who is responding to a guest's complaint or wis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9201-9F3B-4422-A254-002DAF10E9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A47A-5A29-4282-AB25-834C462D6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EF8B-D106-48F1-AA25-E72430B3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7AAB53-5CA3-4BAB-94A4-1C328233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3F6140-4507-47E5-8C42-F844255C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0175A5-F8FA-4FF5-9738-3A815D69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91AD77-9BDB-4295-B539-DD0D2C26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520324-5FB7-43C5-957E-2037712E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25EB9A-9331-4194-8622-4F3B60EF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640EF3-CD8E-4E4C-AD7B-400620F4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8FCD35-2A4A-4D16-BCA2-EE785A3B3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09B79E-C3AE-45C3-96AB-09FD409CE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C8A8F3-30A5-4D0B-ACD8-3F8ECD6F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97D9-D872-4104-860E-4F885DF0D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8E8423-3DF9-482F-928E-91E778E7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5906BF-3EB6-4DA0-A34E-0B46CDDA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0B3137-F74C-4501-B6B7-2B89E34D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519029-C860-492C-BF0F-9D2D2299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01E5E7-4E64-4271-A28A-A62131DA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2635C9-EE97-47E4-888B-A65998AA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7B435F-7280-457A-BC61-D58FA94C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9C2AC7-085F-451C-8A88-38AD0521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45C96D-FC43-45A1-8A26-5C7239A6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C882AF-A0C7-463F-BD52-DDF1AB8E1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5F7B-A48E-4357-96A4-D3C47CBB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082819-4ADC-4F04-AC10-1506679D4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3075319-8B60-4FE4-9594-E76A4AC1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26B020D-71E8-4752-97CD-87A98672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98131BB-14FE-428F-9FCD-0428C3F0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6F00D60-5E5B-4DB7-A324-EB0DDA22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A64C4BB-D840-41DF-B1D8-9DF01FE2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1E31AFA-C5C5-443B-8ABB-54CA1A30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1BC37A9-406A-4674-8754-FEB01EA8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C7D0244-70B4-43A6-BC27-45D62DE9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67B95D3-EDF2-4648-82B5-63DD2865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A759-FFAD-4CA6-AF41-4958EEE32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A08DB3E-6ACC-4339-A78F-30DE2F77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1612A81-D58F-4377-A643-8EA3827B4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DB335D3-5982-487E-9FFE-DA0FB7077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0289-9F25-45AB-8760-4D282FCB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BB19-F8C6-43C5-8FED-AB1A7874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0423-B66D-48E1-BFAC-153566CC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C9A3-EABA-4377-A9E0-8667C633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7A44-8096-4854-86E3-E7D18FDD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0EA3-E0C2-4341-B177-B2438BB3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F68F-EE70-49EB-AE3F-24FDDEF5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17BE-A7AC-48EE-9901-2C7851E5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BB34-BCD7-462A-A88E-CE4136F2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61CE-834E-4D6E-A083-1AFFF673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ED7D-6DEA-4A02-A1F9-404421FC2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FB78-9D4C-4C53-97E6-4FEBD8B19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1EBBC-2CDA-4FBE-868B-B8053F7DD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779F9-6C4E-4F82-BDE5-A1B4E335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8A4AD-2A94-4A5C-984D-3559B405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C54BC-CF76-48E6-80CB-A753772D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B1522-E378-4C51-A608-FDED7A4D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C18F-D6F9-42F8-A2CD-2197CE8A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E61BB-A3B3-4A77-BE4E-B040C377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B0469-853A-4487-A006-BD026FE3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5DEC8-2F84-416C-A3AF-B03B4D4A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8C4D2-F9AF-4ACF-89FB-D5AEF3B4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C4B52-FD3D-4B21-99A7-AA984A4B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51C4C-4588-401A-88D7-AC2B8EDC8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757E8-C814-4978-94DC-ED5F2DB40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606AF-09BF-4432-B089-8C2270329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6FD3D-09E3-4340-B382-4C19CC8C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E3B82-FABD-4415-A771-E105BDDB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C6A0-900C-4D0A-B526-402BEF25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B2A13-A507-4F07-86A3-9D885D4C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8E37B-11BA-408D-9072-B5EADB8A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3574F-495F-4129-B3E5-45F92130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9D7A3-E45F-4FCD-B58A-323C7947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14DA7-6203-4902-841C-ABE7B4CB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C58BA-1928-4CCA-AEF1-A3A37864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47E48-63B4-41C2-84D5-01354BDE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7C78B-6EFF-4A40-BAC9-B9764FC97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E4562-9036-467C-8316-F7370B4A9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5E477-6911-455A-9EEE-406CE3CDA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2F6D-D1BE-4201-B428-08E11A80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811C2-DFE3-45FE-A975-D20F5DEF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0AB6D-8B95-4DDC-8DDC-F806C813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18F99-1649-4793-B812-684DE994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E4328-6A25-40D4-87E0-28479AA8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A60C9-A623-49DF-8768-B992DBA4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96885-833C-43A4-9435-E88419AD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903E2-09FA-4F33-B8AD-56AB852B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DDEFF-FC45-4072-90C6-7D097437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75A2A-9931-4149-AB7F-502D42E2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2C3E7-C09D-44C5-B839-CFDCA0880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45B2-38B5-4DD4-B9BA-E4F01030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3BBFC-6155-4130-B2B6-45C95BB64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F331C-4370-403C-A631-3425A9B52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AFC64-8223-4C49-B7DD-5FE5772B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52560-2ED5-4B36-9051-C7D27C86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40372-6CB9-4318-A427-158A8D34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0BF0C-CFB8-4CF5-AC15-BB696A85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4FA1F-8EC7-42C5-8824-D1929043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CD834-3B3F-4575-8C34-A6959CA0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72D56-2D38-4F8D-946F-51C1ADAF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77DBF-1C7E-4171-9B4D-C9DDB91F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8C90-BD0C-4320-ABA9-137AEE75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2336C-C72F-4B5A-9688-1FAC714C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986F4-8342-4769-A973-DA715B8A9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F6BB7-B439-4E51-AAE7-E55B84822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54E16-6A23-46D6-9B91-EBE30B2B9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8BD1A-99D2-4244-83FE-DB7BB5B6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D044F-1281-4548-B16A-D29D9CE3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FD4C8-58FD-467D-8936-E823D00B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714C0-7FE4-4CE4-B28B-80AFEC87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6F148-16F9-4B5E-B9B1-AC3D0DB8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4BA07-EF7A-4AF8-B731-0AEBBD33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B3DE-682D-45EB-9A0F-7403F616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06150-AC39-4F9F-9140-E65DB88B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61AEF-EECE-40CE-8DB3-E1CC6B08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F436A-4F51-4597-AC3F-31AEAFA8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7179B-F83C-46D1-B881-3B4C35CD5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DBE4A-9100-4AD5-872A-3CA96C4EF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0E9EA-6BF9-4FFA-9A4E-0DC4931A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13E21-D63B-4804-B13A-9329C64F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E49A4-B60A-4E53-9E14-FC8D3A77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EA5B3-1B55-48CE-8D62-57840517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9211B-A29F-40EC-A390-831E0F57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FABA-B69F-43A5-AD5A-AC746E97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C4B7A-595E-4D63-98CE-3B7FE9DD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CF500-014B-4F2A-B515-52D55302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68206-8909-4598-808B-758CE78A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D33F0-F7CD-4450-921E-A6B8BAFA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F1C03-1109-4356-A39A-75817244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D54A8-61B4-43EA-85BD-54FED5432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1CF91-BF70-493A-8785-5B8C9514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27D5C3-6F70-4F86-9D2B-BDF9A78F9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97D3E5-103C-409E-B226-8A98356E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1FCB65-2A9F-41AC-8701-AEA8F892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E819-69D6-413D-A143-10FF9EF365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2975-6E9C-4388-A132-889044E7C9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31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1D07-8E26-4F0E-812E-43317E6F55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dt" idx="3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3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4385-5271-4DF5-B4DF-95465D180E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0654-86A6-47B8-91DF-067B118ED0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3307-CEC1-41D1-8454-FEB6E5EDAD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4655-8D03-4BD4-A640-A9E2B052F9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F031-AC98-48EE-A042-75E3D6079B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B49A-BB36-42D8-9999-62D64C4FEA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6419-65B8-4562-B1BC-0FD8D3B9133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ACF8-654A-4BDA-913F-AF2C4ABE48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eorgia"/>
              </a:rPr>
              <a:t>Ritz Carlton: The Case for Service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565" name="Picture 5" descr="rc1a.png"/>
          <p:cNvPicPr/>
          <p:nvPr/>
        </p:nvPicPr>
        <p:blipFill>
          <a:blip r:embed="rId1"/>
          <a:stretch/>
        </p:blipFill>
        <p:spPr>
          <a:xfrm>
            <a:off x="1981080" y="2743200"/>
            <a:ext cx="511200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Human Resourc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To provide superior service, Ritz-Carlton created its targeted selection process to ensure a successful match of potential employees to employment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88" name="Picture 3" descr="Ritz-Carlton-Hong-Kong-1.jpg"/>
          <p:cNvPicPr/>
          <p:nvPr/>
        </p:nvPicPr>
        <p:blipFill>
          <a:blip r:embed="rId1"/>
          <a:stretch/>
        </p:blipFill>
        <p:spPr>
          <a:xfrm>
            <a:off x="2590920" y="3962520"/>
            <a:ext cx="325728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Train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pon being selected, new employees learn the corporate culture through a two-day orientation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9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followed by extensive on-the-job training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9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and job certification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91" name="Picture 3" descr="Dog-Training.jpg"/>
          <p:cNvPicPr/>
          <p:nvPr/>
        </p:nvPicPr>
        <p:blipFill>
          <a:blip r:embed="rId1"/>
          <a:stretch/>
        </p:blipFill>
        <p:spPr>
          <a:xfrm>
            <a:off x="3124080" y="2362320"/>
            <a:ext cx="2656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Reinforced Valu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228240" y="13716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itz-Carlton values are reinforced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continuously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by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daily "line ups"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requent recognition for extraordinary achievemen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nd a performance appraisal based on expectations explained during the orientation, training, and certification processes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Sense of Urgenc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To ensure guests' problems are resolved quickly, workers are required to </a:t>
            </a:r>
            <a:r>
              <a:rPr b="0" i="1" lang="en-US" sz="3600" spc="-1" strike="noStrike">
                <a:solidFill>
                  <a:srgbClr val="000000"/>
                </a:solidFill>
                <a:latin typeface="Georgia"/>
              </a:rPr>
              <a:t>act at first notice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--regardless of the type of problem or customer complaint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96" name="Picture 3" descr="5611_urgent_vs_important_perma.gif"/>
          <p:cNvPicPr/>
          <p:nvPr/>
        </p:nvPicPr>
        <p:blipFill>
          <a:blip r:embed="rId1"/>
          <a:stretch/>
        </p:blipFill>
        <p:spPr>
          <a:xfrm>
            <a:off x="2895480" y="38862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Empowermen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598" name="Content Placeholder 3" descr="hands_empowerment_circle_mbyv.jpg"/>
          <p:cNvPicPr/>
          <p:nvPr/>
        </p:nvPicPr>
        <p:blipFill>
          <a:blip r:embed="rId1"/>
          <a:stretch/>
        </p:blipFill>
        <p:spPr>
          <a:xfrm>
            <a:off x="990720" y="1523880"/>
            <a:ext cx="716256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Data With A Purpos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aily quality production reports, derived from data submitted from each of the 720 work areas in the hotel, serve as an </a:t>
            </a: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early warning system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r identifying problems that can impede progress toward meeting quality and customer-satisfaction goal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01" name="Picture 3" descr="Computer_data_180_144.jpg"/>
          <p:cNvPicPr/>
          <p:nvPr/>
        </p:nvPicPr>
        <p:blipFill>
          <a:blip r:embed="rId1"/>
          <a:stretch/>
        </p:blipFill>
        <p:spPr>
          <a:xfrm>
            <a:off x="380880" y="4343400"/>
            <a:ext cx="838224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Data With A Purpos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upled with quarterly summaries of guest and meeting-planner reactions, the combined data are compared with predetermined customer expectations to improve service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04" name="Picture 3" descr="Computer_data_180_144.jpg"/>
          <p:cNvPicPr/>
          <p:nvPr/>
        </p:nvPicPr>
        <p:blipFill>
          <a:blip r:embed="rId1"/>
          <a:stretch/>
        </p:blipFill>
        <p:spPr>
          <a:xfrm>
            <a:off x="380880" y="4343400"/>
            <a:ext cx="838224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Data With A Purpos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mong the data gathered and tracked over time ar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nual guest-room preventive-maintenance cycl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ercentage of check-ins with no queu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ime spent to achieve industry-best clean-room appearan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d time to service an occupied guest room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07" name="Picture 3" descr="Computer_data_180_144.jpg"/>
          <p:cNvPicPr/>
          <p:nvPr/>
        </p:nvPicPr>
        <p:blipFill>
          <a:blip r:embed="rId1"/>
          <a:stretch/>
        </p:blipFill>
        <p:spPr>
          <a:xfrm>
            <a:off x="380880" y="4572000"/>
            <a:ext cx="838224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Result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4560" y="22860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According to surveys conducted for Ritz-Carlton by an independent research firm, </a:t>
            </a:r>
            <a:r>
              <a:rPr b="1" i="1" lang="en-US" sz="4000" spc="-1" strike="noStrike">
                <a:solidFill>
                  <a:srgbClr val="000000"/>
                </a:solidFill>
                <a:latin typeface="Georgia"/>
              </a:rPr>
              <a:t>92 to 97 percent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of guests leave with a </a:t>
            </a:r>
            <a:r>
              <a:rPr b="1" i="1" lang="en-US" sz="4000" spc="-1" strike="noStrike">
                <a:solidFill>
                  <a:srgbClr val="000000"/>
                </a:solidFill>
                <a:latin typeface="Georgia"/>
              </a:rPr>
              <a:t>very positive 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impression of the hotel brand.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0" name="Picture 3" descr="daimler-financial-to-post-positive-results-for-q4-13140_1.jpg"/>
          <p:cNvPicPr/>
          <p:nvPr/>
        </p:nvPicPr>
        <p:blipFill>
          <a:blip r:embed="rId1"/>
          <a:stretch/>
        </p:blipFill>
        <p:spPr>
          <a:xfrm>
            <a:off x="1066680" y="457200"/>
            <a:ext cx="1673280" cy="125568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4" descr="daimler-financial-to-post-positive-results-for-q4-13140_1.jpg"/>
          <p:cNvPicPr/>
          <p:nvPr/>
        </p:nvPicPr>
        <p:blipFill>
          <a:blip r:embed="rId2"/>
          <a:stretch/>
        </p:blipFill>
        <p:spPr>
          <a:xfrm>
            <a:off x="5943600" y="609480"/>
            <a:ext cx="167328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Quality Commitmen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s a result of its quality program, Ritz-Carlton received 121 quality awards from the travel industry in 2010 alone, including: "Best Hotel Chain in the United States," by Zagat Travel Survey; "Index Award of Excellence," by Hotel and Travel Index; "Alred Award" for Best Hotel Chain, by Corporate Travel; and "Top Hotel Chain in Ability to Service Meetings," by Successful Meeting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Ritz Carlton Case Stud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Quality management begins with the president and the other 13 senior executives who make up th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corporate steering committee and th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senior quality-management team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Purpose Driven Result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The aim of these and other customer-focused measures is not simply to meet the expectations of guests but to provide them with a memorable visit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6" name="Picture 3" descr="results.jpg"/>
          <p:cNvPicPr/>
          <p:nvPr/>
        </p:nvPicPr>
        <p:blipFill>
          <a:blip r:embed="rId1"/>
          <a:stretch/>
        </p:blipFill>
        <p:spPr>
          <a:xfrm>
            <a:off x="1143000" y="3809880"/>
            <a:ext cx="66294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Corporate Managemen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y meet weekly to review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1. product- and service-quality measur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2. guest satisfac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3. market growth and development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4. organizational indicators, profits, and competitive statu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Corporate Managemen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Approximately one-fourth of each executive's time is devoted to quality-related matter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72" name="Picture 3" descr="rc2.jpg"/>
          <p:cNvPicPr/>
          <p:nvPr/>
        </p:nvPicPr>
        <p:blipFill>
          <a:blip r:embed="rId1"/>
          <a:stretch/>
        </p:blipFill>
        <p:spPr>
          <a:xfrm>
            <a:off x="3352680" y="1600200"/>
            <a:ext cx="248292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GOLD STANDARD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Rectangle 3"/>
          <p:cNvSpPr/>
          <p:nvPr/>
        </p:nvSpPr>
        <p:spPr>
          <a:xfrm>
            <a:off x="152280" y="4038480"/>
            <a:ext cx="86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Key product and service requirements of the travel consumer have been translated into Ritz-Carlton Gold Standards, which include a credo, motto, three steps of service, and 20 "Ritz-Carlton Basics"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76" name="Picture 4" descr="rc3.jpg"/>
          <p:cNvPicPr/>
          <p:nvPr/>
        </p:nvPicPr>
        <p:blipFill>
          <a:blip r:embed="rId1"/>
          <a:stretch/>
        </p:blipFill>
        <p:spPr>
          <a:xfrm>
            <a:off x="228600" y="15228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5" descr="Ritz-Carlton1-Lt.jpg"/>
          <p:cNvPicPr/>
          <p:nvPr/>
        </p:nvPicPr>
        <p:blipFill>
          <a:blip r:embed="rId2"/>
          <a:stretch/>
        </p:blipFill>
        <p:spPr>
          <a:xfrm>
            <a:off x="5638680" y="152280"/>
            <a:ext cx="329580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The Credo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Ritz-Carlton Hotel is a place where the genuine care and comfort of our guests is our highest miss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e pledge to provide the finest personal service and facilities for our guests who will always enjoy a warm, relaxed, yet refined ambienc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Ritz-Carlton experience enlivens the senses, instills well-being, and fulfills even the unexpressed wishes and needs of our guest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The Motto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t The Ritz-Carlton Hotel Company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"We are Ladies and Gentlemen serving Ladies and Gentlemen."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s motto exemplifies the anticipatory service provided by all staff member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The Three Service Step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A warm and sincere greeting. Use the guest's name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Anticipation and fulfillment of each guest's needs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Fond farewell. Give a warm good-bye and use the guest's name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Standard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ach employee is expected to understand and adhere to these standards, which describe processes for solving problems guests including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detailed grooming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housekeeping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safety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and efficiency standards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03:02:28Z</dcterms:created>
  <dc:creator>robert</dc:creator>
  <dc:description/>
  <dc:language>en-US</dc:language>
  <cp:lastModifiedBy>robert</cp:lastModifiedBy>
  <dcterms:modified xsi:type="dcterms:W3CDTF">2011-04-02T04:47:00Z</dcterms:modified>
  <cp:revision>12</cp:revision>
  <dc:subject/>
  <dc:title>Ritz Carlton Case Study</dc:title>
</cp:coreProperties>
</file>